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C56-2ACF-4F1A-9880-F09249EC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FB6-6DBB-4F96-8F8A-98E3D86E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D3B-A7C5-4845-94E9-A89D76C9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F270-2026-4E4D-BB06-11C6AB76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661-2DF5-4E58-B87E-B33B0473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4CF-3747-4492-886F-1CD46946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A5F-1218-4E7A-9B49-2F74A387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F48-FFA7-45B3-AC01-E92D7D2B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0FA-0A2E-4DAC-B734-1B644733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455-D6C1-4728-9E31-9063A093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56B-12FD-4416-8B55-C09038E1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DC3-6189-4F16-B429-75BC0542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7382-9ACB-435F-94BB-F9830CACC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70160" y="-8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 u="sng">
                <a:solidFill>
                  <a:srgbClr val="000000"/>
                </a:solidFill>
                <a:uFillTx/>
                <a:latin typeface="Times New Roman"/>
              </a:rPr>
              <a:t>FreeBSD jpman </a:t>
            </a:r>
            <a:r>
              <a:rPr b="0" lang="ja-JP" sz="4400" spc="-1" strike="noStrike" u="sng">
                <a:solidFill>
                  <a:srgbClr val="000000"/>
                </a:solidFill>
                <a:uFillTx/>
                <a:latin typeface="Times New Roman"/>
              </a:rPr>
              <a:t>プロジェクトと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「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FreeBSD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日本語マニュアルを作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プロジェクト」であ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jpman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日本語マニュアルの特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man1(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一般コマンド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: 419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個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man8(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管理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コマンド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: 251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個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の和訳を公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インストールが簡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本家リリースに確実に追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翻訳の質の高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98240" y="152280"/>
            <a:ext cx="9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N. Kumag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 u="sng">
                <a:solidFill>
                  <a:srgbClr val="000000"/>
                </a:solidFill>
                <a:uFillTx/>
                <a:latin typeface="Times New Roman"/>
              </a:rPr>
              <a:t>jpman </a:t>
            </a:r>
            <a:r>
              <a:rPr b="0" lang="ja-JP" sz="4400" spc="-1" strike="noStrike" u="sng">
                <a:solidFill>
                  <a:srgbClr val="000000"/>
                </a:solidFill>
                <a:uFillTx/>
                <a:latin typeface="Times New Roman"/>
              </a:rPr>
              <a:t>プロジェクトの現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メーリングリストを通じて活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3200" spc="-1" strike="noStrike">
                <a:solidFill>
                  <a:srgbClr val="000000"/>
                </a:solidFill>
                <a:latin typeface="Courier New"/>
              </a:rPr>
              <a:t>man-jp@jp.freebsd.org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マニュアルページの翻訳・チェ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日本語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an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コマンド整備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2800" spc="-1" strike="noStrike">
                <a:solidFill>
                  <a:srgbClr val="000000"/>
                </a:solidFill>
                <a:latin typeface="Courier New"/>
              </a:rPr>
              <a:t>ja-man-1.1g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98240" y="152280"/>
            <a:ext cx="9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N. Kumag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 u="sng">
                <a:solidFill>
                  <a:srgbClr val="000000"/>
                </a:solidFill>
                <a:uFillTx/>
                <a:latin typeface="Times New Roman"/>
              </a:rPr>
              <a:t>求む！若い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まず使ってみてくださ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誤植・誤りなど見つけた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ourier New"/>
              </a:rPr>
              <a:t>man-jp@jp.freebsd.org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に連絡くださ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翻訳・チェックに力を貸してくださ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まず</a:t>
            </a:r>
            <a:r>
              <a:rPr b="1" lang="ja-JP" sz="2800" spc="-1" strike="noStrike">
                <a:solidFill>
                  <a:srgbClr val="000000"/>
                </a:solidFill>
                <a:latin typeface="Courier New"/>
              </a:rPr>
              <a:t>man-jp@jp.freebsd.org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に入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翻訳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チェック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メーリングリストでの突っ込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詳細は、</a:t>
            </a:r>
            <a:r>
              <a:rPr b="1" lang="ja-JP" sz="2800" spc="-1" strike="noStrike">
                <a:solidFill>
                  <a:srgbClr val="000000"/>
                </a:solidFill>
                <a:latin typeface="Courier New"/>
              </a:rPr>
              <a:t>http://www.jp.freebsd.org/man-jp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98240" y="152280"/>
            <a:ext cx="9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N. Kumag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800" y="1371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800" y="19810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800" y="2514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800" y="30481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800" y="35812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800" y="41148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800" y="46483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800" y="51814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800" y="57150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685800"/>
            <a:ext cx="822960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81160" y="137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1160" y="1981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8880" y="2514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81160" y="3048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33440" y="358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33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33440" y="4648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81160" y="5181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81160" y="5715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84680" y="135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一般コマン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74720" y="19605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システムコ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84640" y="2514600"/>
            <a:ext cx="26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ライブラリ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(338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35200" y="30798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デバイス・デバイスドライ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6680" y="3560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ファイル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97600" y="409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ゲー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6480" y="4627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その他情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48600" y="51609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システム管理用コマン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95680" y="56944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カーネルインタフェー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85200" y="135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完・追随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06400" y="1960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06400" y="249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06400" y="3027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1680" y="356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翻訳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1680" y="409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翻訳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1680" y="4627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翻訳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85200" y="5160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完・追随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06400" y="5694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47880" y="852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カテゴ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20320" y="852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個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58720" y="852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説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57520" y="852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状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42240" y="152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マニュアルページ・カテゴリ別一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60840" y="6391440"/>
            <a:ext cx="477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注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個数は、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.2.6-RELEASE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での値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リンク含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98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日現在の状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98240" y="152280"/>
            <a:ext cx="94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N. Kumag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2T03:10:28Z</dcterms:created>
  <dc:creator>熊谷 典大</dc:creator>
  <dc:description/>
  <dc:language>en-US</dc:language>
  <cp:lastModifiedBy>熊谷 典大</cp:lastModifiedBy>
  <dcterms:modified xsi:type="dcterms:W3CDTF">1998-06-02T05:44:54Z</dcterms:modified>
  <cp:revision>6</cp:revision>
  <dc:subject/>
  <dc:title>FreeBSD jpman プロジェクトとは</dc:title>
</cp:coreProperties>
</file>